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E7D-2ED9-4A27-85A1-9B4EEFAE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51F-E923-4000-BFA0-529C7198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B80-946E-49C7-ACB8-BACA60CE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ED2-39B6-45B0-BC82-3DB7E0FF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FF1-9EE1-4A19-A103-B13D74C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E65-7A4A-4764-B874-19939503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708-1EFD-4E5E-839F-C951A8F4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C99-24E2-4457-8B5B-6BB14FC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06F-6DBF-4188-9DD7-D5FBDB83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BAF-3827-4049-9094-4DD6497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24C-EAC8-4987-BAD7-4BDD779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083-F3D1-4430-B916-3713011E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71F-D5CE-4325-BCBC-7DA9EA5103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79280" y="2276280"/>
            <a:ext cx="453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6e5552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835280" y="1557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595959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1-30T20:22:47Z</dcterms:modified>
  <cp:revision>755</cp:revision>
  <dc:subject/>
  <dc:title>Diapositiva 1</dc:title>
</cp:coreProperties>
</file>